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952-29F2-4D38-A73C-8C8A976B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47E-AFBD-499B-B289-D44B0444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09044-58DC-45E8-AEA1-C2BCEC01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26820-30DB-4C84-9248-E39BD766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D0951-7CD4-4909-B061-AFCF34AF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85184-6A79-49BF-A686-273D414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09846-B035-434A-BD68-18EAFBF3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55485-37FF-4790-B617-2A54134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E8650-097B-4FE0-9B2E-D94FF1C2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3F266-2A96-47BA-87F0-8150CE4A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46822-3616-4D1D-AF15-663573C2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30E03-A6DD-4D54-A752-BA93C831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8AF-D764-4FF5-ACE5-BF9FEE8B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CFAE5-C089-47D1-9321-B2513FE1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21402-2C73-4E1E-8FFE-61F9F4CF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8D4DF-0236-4693-BB5B-51720B33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976B6-D09B-42E4-83F9-7C70814B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D09FD-7E04-4FD9-B5D2-8C2C2156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95014-AB8F-4D68-ABAE-569970E9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021C8-298A-4D79-949A-4C37DE14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1ADF0-29F5-4D94-B27F-5DAE717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721D2-562A-4CC4-BF58-1C52908C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92483-06B1-4F83-92E7-937E2C8C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8C6-1650-4C4B-8D95-4BC7EA6F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65014-7848-4E09-8A17-42746239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63191-DAB2-43AF-950B-FCD434B0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F0CB2-5607-47A5-B334-28538ACE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1FC42-E722-4AE5-ABEC-3A69C630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08FA5-867B-4C32-A1DA-9AF227B3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63925-1E40-438B-BFA1-54852851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0F53D-4E38-4FB2-B6F4-8AB8774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9B9A3-42D8-4CAC-A7AE-E3CB032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861E3-5B35-4207-8E7A-8E038928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A4CE5-01C7-417C-84E9-2F11BD11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5B91-7088-47CC-84AF-81E4A3EC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4E9A3-2B61-4B08-9926-13A32865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36165-1F68-4D5C-BF6F-43B140F1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D2F33-7A78-4F75-8C14-30816FF2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87191-9650-4A6E-B5B4-BE28C856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4A1E1-4826-48C7-BA32-270CE658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62C0B-D634-414D-99A5-15DBE582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03AE9-C394-4EB8-BFC3-594C045F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4543F-8C38-45F9-984A-EB2F8964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B9B24-9B2C-4616-8E42-F7B03732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1E969-6C7B-4AD3-9DFE-BC7379F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9B3D-99C3-4843-8560-74F54F7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3B30D-A282-4569-92CB-52BB90C4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63133-DFC2-4AC8-8EE3-AA4B92C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709D7-B9AE-4E3E-9280-75905AAF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BE2D6-8A90-41C9-8F3D-FC874221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8D33A-C197-4A50-A1BF-CD4E7F9A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25F82-ACDE-48F8-B6A2-08339D52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72F86-054D-4D08-8B21-2D874979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9E890-3EB5-43FB-A8D3-3961945E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00504-4D18-42D3-894D-41CC7662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27221-CFBE-4960-B6D7-0226E74A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226F-2459-4197-B5F9-AC52D171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E9629-E500-4952-B30B-6D1AAF43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37F9B-8380-42F0-A8EE-FDCA9F07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17E0B-6354-4A67-9126-B32108C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69FDA-AA4E-4F63-B37B-FE3316D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A3A73-2AD8-4806-AE9F-F243E48A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A8AB6-B519-468B-8F6E-8B0E111F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B9F68-BD74-48B1-AEDA-F2156306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B7740-4E4D-47E4-BB67-E4B66BD1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3FAE0-85AA-41B6-8E59-2D61D34A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C081F-EAEB-4E0A-8134-B847A955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D21E-A8B4-4C9F-8C6F-066D2704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5D939-E815-4D6A-A287-7763B0DE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8CCE9-3041-4881-AB14-0CE8DE67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EB05C-6EDF-49E8-8431-8754171C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B5012-8189-43A8-A5A5-EB6D7D13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48DFE-6CA8-48E0-AFDF-85762620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214E8-5AB2-4381-B6AD-33BAC474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3FD6D-2A92-44B4-91B4-F3CAD85C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20F96-275B-4223-8BDD-A462E99C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CB716-23EA-4A96-8EF0-220AA98A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C07B8-B058-4796-B2CD-B32682C7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8D89-B4C2-4B03-893F-855D7A2F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D4DAC-33FD-4FF5-A398-DA09A22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27CC7-76AE-48E1-83DD-E73DAF03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287A7-6FDD-4BF4-891B-AAEC8E1E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3C487-BD95-43E1-9381-4B623752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A2710-7A90-43CA-A714-015E0AD8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DD9E1-CD8A-48CC-8303-1AFC90F0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4C0FC-FBD9-48B5-A3A4-FC3F27B3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84FB9-157E-4F26-A44A-49341FB8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02D40-6DD4-4001-BFA2-C731B874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D19C5-C230-4D52-BEEB-C6BCCFD0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E049-F45F-4461-B5A1-F65227C7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02177-33DE-4B7C-A0FF-B9D9EEAE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49B3E-7460-4A4D-9940-4F2BCFF1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2F025-A5DC-4D4E-BF3A-0CADB047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1B663-5147-4004-8875-6F5FF52B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2DB3F-0B29-4383-9A5E-85AA4DE4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96C07-B1DD-4990-8BF1-C4F235F0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74C6C-9FB9-4AD5-BB7C-0B23DC09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D18F0-9F17-4149-BC3C-BC84A8DE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74684-5961-4C68-9A64-718C4299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7EBA3-65F1-4112-BF65-3926BB72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1717-098D-4E4E-A0FC-6FA7EFC1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03A80-EA07-4079-A361-82BABA62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059EAF-5AE5-426F-9886-C23C8F3B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B8A9A-AF50-4D73-9CDD-505BC131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E858B-B093-466A-98EA-B6A74484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37155-77EC-4D65-AD09-CD62554F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DE442-07D7-49FF-BC2F-5A462C7B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29283-9748-4E2E-A8B0-FF46C88E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F2A9E-9B75-4817-A2F1-96FA42D7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7C459-84D1-423B-AAF7-3E0D45F3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174AE-4087-4C51-99B5-A7FD22D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41B-24F2-4D7F-A810-4FE9915C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773B-1083-4F0D-A51C-265B9BA5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CF146-B056-4C81-9BAB-6CD48C7F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4D709-F326-4620-A80A-1476EC8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A4E98-1333-4AAE-9A71-F01D0E26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41EF57-684B-46D1-8547-CF0FCE7B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DABA9-27E0-45DE-AF8E-AE7718BD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9771A-E618-4360-BBEE-072FF219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BA8C6-46D1-4CE8-B38B-6FBE1DF4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6BCB1-B9F2-421F-923B-675FC1DD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A0ADE-954E-413F-898B-90ADA4F9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521F0-897A-4E3A-9457-9AE14621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B8D5-F7CB-401F-AE9C-07DC4568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6DF19-684E-4C4B-A705-327E3DFA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FF6484-052C-4EBB-B6D5-E3C1CAFF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E2D08-09F5-4319-9AF8-24A7C97A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30C14-B873-4188-9ABE-7495A8AA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3973A-0221-4550-8EEF-0ED8B3BB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DEA47-9B5F-4D30-BC38-A524E360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40947-5D94-4BEE-9883-AE2144DC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BA03-1078-477E-B700-ABF25EFD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9789-3AFE-4148-B44C-91266D16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F66A-F50B-4DC1-86CC-E5F3A787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72B2-8750-4EB2-965D-E7FE5353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785A-5E68-43C5-8AAC-7CA50C47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A3D0-73C1-40F7-9345-D5CC4600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F1A4-882A-43D3-B4D0-DA510BA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135B-4DD1-4F36-BB9B-D10C30D4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274-8494-4498-A941-648F90B9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33BE-E196-4DF4-A726-96FB5670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CE81-264B-42EC-AD1E-49841578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72045-7BFD-4B49-B399-054667C8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56E3-7183-4C6F-8CA7-ABAA1A9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820F1-F76F-45E7-B702-AEBACA44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51FD-57A8-4C24-9B3A-9654503B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1DDD-23F6-42D8-AB1F-F3CAACFF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3F4A-BA99-4E48-95A8-17F0E054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8DB4-43CA-4149-9933-52BF65B2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DC70-EB34-49C6-A561-FE1265F7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620-6A95-4448-B46A-CB4D97D8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3A20-60AB-4E92-94E6-B8A1C5BA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DB287-F83D-4AEE-B400-89CADB9F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48317-A085-4C64-982E-FFA4555C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3072-D71E-40E9-903A-6564CB99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EE7A-9CAB-45BD-AD5B-DFCED3E6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271A-2F2A-444A-9E99-77B476E7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21CC-69EA-4E24-AF0D-02C96970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E763-2329-4453-9E30-323EAADA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0675-F6AD-482D-B806-B19FCE33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BAC78-560B-49A3-B625-C4259135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98F-3066-4025-A9CE-4982F2FE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ACA55-DE24-4488-B3B7-86C10B19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3FA67-D2AC-413B-A76F-50B59E35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E0D2C-49CB-42D0-B34A-4A0433BD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88AFA-C2A6-4C20-9152-45FAE550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C42B-F7D5-48C0-888C-0E174F30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8AA73-68A3-447C-8DEC-EA0DD025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B468B-45B1-4BCD-B865-D236CBA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387E6-C4A8-439B-9CAF-5304B41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887CC-E2FC-45B9-9509-3B414340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7089-17FD-4765-B5F4-7A8ED7F1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4A6-57C4-4049-B804-E141F38B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F21AE-D102-4A38-A935-364DBFF1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4938F-32A0-4644-A2FA-73DB18B1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2318C-0EE3-4B2E-8E8E-CB123ED6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03E58-0DD9-48C0-A009-AC3EC977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4097A-7660-4304-8DD2-4AA41752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591B1-B4AE-446D-BC05-8182D33D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1BCBC-2E1E-4CF4-ACB5-493270FA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5DD23-91DA-4A68-BCAB-2ECF826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9E1B2-983B-4C59-9885-BC8FB2E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9CA37-F4C4-483D-9F71-2A52DD6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357-E013-43E0-A11F-4F8BF0CD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B7D02-F2CA-4098-A679-A4EEC79A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7F39-C788-4D27-8BCE-740B8939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AF259-2C78-4E01-9B59-A9F485AA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C6B65-B60B-4414-95D8-0CB1A8AA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BFD8A-2F7C-41EA-A67B-3F11C6E9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FB772-430B-4B44-BD04-875B42E4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E58F3-036F-4ED7-9E50-B99FE4A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4E8FA-3237-406A-AF2F-4E9539E0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42440-A57D-44C4-BED5-F38FAFC1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3A577-F04C-44BF-9079-2B6966D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19E-58BB-4A45-B5DF-322351C0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B4D74-B672-4A80-928F-B62FCE7D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E3B18-D70E-4E1D-8665-C0083AA4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22393-FF05-4B19-8C01-2CB13B09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6BE2F-638D-47D2-A269-946AA002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1CEBC-B03C-4EF3-B457-7947EE23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A6E81-72EA-424C-B45B-79F766DC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8FEE1-4856-4930-8722-E70A7CBA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6124F-DD2A-42ED-A220-99B857AA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3DABF-C68A-4CB2-A351-39BB31E1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8992A-787A-47B5-9534-715BF78D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B7E-804C-4934-91C3-6584CE88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C2D2B-F6E5-4E9F-90EC-9ECC1AD1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B7F70-5F04-4DCE-BFF7-E69AFB6C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218CF-8C15-411C-9C67-766D4D24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F3E77-7645-447A-AF5A-2BA13A38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C3853-17B4-4454-ACEA-BF8FDFAC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460D5-E148-4349-98DB-3B11C48A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F4E9B-B261-43D8-AEE2-759B9F82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B1A57-C4CA-4287-B54E-4A582A9B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27393-C60C-4B4C-BCA7-22EB40E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56F19-6F6D-41CF-8662-A170E545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68CFA-C4C2-457E-A735-CCFBA0EAAB7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5B431-BC47-490B-9B7A-15D494106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9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9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C01A1-3AE1-4F1D-B5F1-9581C42A375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730AB-6E90-4C7D-88BA-6FE9447B44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440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6E3F1-014A-4EB2-924A-56BC57E5A3D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9F4B7-0366-40A9-8BB0-74F8ADD82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485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488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BB5AF-0520-4622-B14A-A2A255A5A58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F5CA6-78FF-4934-B33F-0E4D1C0A7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532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94783-7907-4982-9D1C-F9ECA447EC3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FEF11-D002-4D1A-8C48-311E6326CD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577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580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55A06-56AF-498A-985D-E84166CEFE2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D00F2-9729-4008-A1E9-4F55AE699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624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AB3F2-D6E9-41B0-A5CF-C9AD896CD0E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62DCB-3A22-449A-A803-057AF5827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669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672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6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3752E-3DFF-4FA0-BAAA-FAED87CC608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7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8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D6AD3-0A6E-436A-8153-F766819A5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Date Placeholder 4"/>
          <p:cNvSpPr/>
          <p:nvPr/>
        </p:nvSpPr>
        <p:spPr>
          <a:xfrm>
            <a:off x="95580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92025-0EF3-4963-9B4E-C02FA20B94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6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92207-0302-49B0-B79E-06C4A2062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Group 8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718" name="Picture 9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TextBox 11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7F0F2-11AA-495C-826F-D27F7D485B0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46CBB-53EF-44AA-9865-0D5DF53F5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76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Group 9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76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12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70E60-2305-4E64-AB6C-DED01A9A708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32D6B-57CC-4523-91DB-1337DFC0A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B95C4-2CAA-484F-86D7-45B7328C30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A7B3B-F32A-46F7-909D-61F9A34174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78F4D-657F-4E84-9CB2-68C7D536BCA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F88DA-BF09-4860-87D5-F83963839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639280" y="6486480"/>
            <a:ext cx="390600" cy="371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D25BD-FD40-45B1-9A03-937FDCCFEDA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C16B9-DEB6-4DF1-AAA4-A01EBEC75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39340-28AA-4F4A-B785-BDD7812931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5F944-9441-48BA-A1FD-0F51342AF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211" name="Picture 7" descr=""/>
            <p:cNvPicPr/>
            <p:nvPr/>
          </p:nvPicPr>
          <p:blipFill>
            <a:blip r:embed="rId2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8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855B5-B36A-4868-AC10-FC937100B70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D92FB-14FD-4E3E-BD99-DF4C86098F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25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CABA0-02C7-4C91-931D-55FAFA5BF3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4C67D-BA75-4EB0-8FE3-F7FE9C3F9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01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04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D0E1E-F49F-4D99-B19B-F30ACA7B67C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5217E-9B5B-47A9-9659-253FEFF25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348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DDEA8-8EE9-4212-A35D-3932A236C41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F26A0-35AE-4C5E-8D2C-AC3734AD1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Training Module CPG T1DM – </a:t>
            </a:r>
            <a:br>
              <a:rPr sz="4400"/>
            </a:b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Case Discussion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854440" y="3138480"/>
            <a:ext cx="56563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Dr. Suhaimi Huss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Senior Lecturer &amp; Consultant Paediatric Endocrinologist, Universiti Sains Malaysia, Kelan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Dr. Janet Hong Yeow H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Consultant Paediatric Endocrinolog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Hospital Putrajaya, Putrajay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Ms. Chow Yen N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Pharmac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Klinik Kesihatan Batu, Kuala Lump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57080" y="2992320"/>
            <a:ext cx="2071800" cy="3195720"/>
          </a:xfrm>
          <a:prstGeom prst="rect">
            <a:avLst/>
          </a:prstGeom>
          <a:ln w="0">
            <a:noFill/>
          </a:ln>
        </p:spPr>
      </p:pic>
      <p:sp>
        <p:nvSpPr>
          <p:cNvPr id="813" name="Slide Number Placeholder 4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CE22D-6875-4626-A7B5-CE5A0B4BF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252000"/>
            <a:ext cx="788688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0" name="Picture 2" descr=""/>
          <p:cNvPicPr/>
          <p:nvPr/>
        </p:nvPicPr>
        <p:blipFill>
          <a:blip r:embed="rId1"/>
          <a:stretch/>
        </p:blipFill>
        <p:spPr>
          <a:xfrm>
            <a:off x="777960" y="966960"/>
            <a:ext cx="7588080" cy="32716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3" descr=""/>
          <p:cNvPicPr/>
          <p:nvPr/>
        </p:nvPicPr>
        <p:blipFill>
          <a:blip r:embed="rId2"/>
          <a:stretch/>
        </p:blipFill>
        <p:spPr>
          <a:xfrm>
            <a:off x="1017720" y="4238640"/>
            <a:ext cx="7351560" cy="2001960"/>
          </a:xfrm>
          <a:prstGeom prst="rect">
            <a:avLst/>
          </a:prstGeom>
          <a:ln w="0">
            <a:noFill/>
          </a:ln>
        </p:spPr>
      </p:pic>
      <p:sp>
        <p:nvSpPr>
          <p:cNvPr id="842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DFB65-8CA3-4A5E-994A-9CC3FAD89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45960"/>
            <a:ext cx="7886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28560" y="1371240"/>
            <a:ext cx="799488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ed to know the effect of carbohydrate on sugar by knowing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nsulin to carbohydrate ratio (IC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R is defined as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mount of carbohydrate in grammes covered by one unit (IU) of rapid-acting or short-acting insul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500 rule for rapid-acting insul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450 rule for short-acting insu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F33B7-15C1-45CD-ABAA-486918BEA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2522520" y="3673440"/>
            <a:ext cx="3862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CR =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______500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tal daily insul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2533680" y="5149800"/>
            <a:ext cx="3862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CR =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______450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tal daily insul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4ECD2-965F-4C16-8A2A-EC13AC4E0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6"/>
          <p:cNvSpPr/>
          <p:nvPr/>
        </p:nvSpPr>
        <p:spPr>
          <a:xfrm>
            <a:off x="1476360" y="2692440"/>
            <a:ext cx="649764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CR : 450/21 = 21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or ≈ 20 g for 1 IU of insul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9360"/>
            <a:ext cx="78868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28560" y="1246320"/>
            <a:ext cx="788688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F is defined as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mount of BG in mmol/L reduced by one unit (IU) of rapid-acting or short-acting insulin &amp; used to correct hyperglycaem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100 rule is for rapid-acting insu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83 rule is for short-acting insu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.g : ISF = 83/21 = 3.9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or 1 unit of insulin → BG drop of ≈ 4 mmol/L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CD969-E9EA-4323-8E11-CC978BEF6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4"/>
          <p:cNvSpPr/>
          <p:nvPr/>
        </p:nvSpPr>
        <p:spPr>
          <a:xfrm>
            <a:off x="2270160" y="2854440"/>
            <a:ext cx="3862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SF =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______100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tal daily insul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5"/>
          <p:cNvSpPr/>
          <p:nvPr/>
        </p:nvSpPr>
        <p:spPr>
          <a:xfrm>
            <a:off x="2317680" y="4067280"/>
            <a:ext cx="3862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SF =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______83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tal daily insul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383760"/>
            <a:ext cx="78868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28560" y="1247400"/>
            <a:ext cx="78868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G pre-dinner: 15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Lunch intake: 60 g carbohydrate, was given 3 IU 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 to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CR = 60/</a:t>
            </a:r>
            <a:r>
              <a:rPr b="0" lang="en-MY" sz="24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* =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SF = 15 - 6/4** = 2.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deally the total lunch insulin dose should be ≈ </a:t>
            </a: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5.5 I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ICR = 450/21 = 21.4  or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 for 1 IU of 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*ISF = 83/21= 3.95 or 1 IU of insulin → drop of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≈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548235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mol/L B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3E97C-E211-4326-B1A6-15693DC4C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28560" y="5900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28560" y="2050560"/>
            <a:ext cx="788688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What are the other issues that you need to counsel patient before dischar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DF28D-2DFC-4486-843B-70090CFA3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628560" y="2063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Hypo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Sick da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25B29-EFA0-4F97-8839-A341F04F6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5796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28560" y="2039400"/>
            <a:ext cx="788688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boy was discharged &amp; seen in your clinic after 2 week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rom his BG diary, he had a few episodes of hypoglycaemia at pre-dinn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5AC75-6862-4946-9383-39E961BE1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28560" y="2063520"/>
            <a:ext cx="788688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How do you manage his pre-dinner hypoglycaem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44A3D-792A-4025-95BE-7F75A6D33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28560" y="2063880"/>
            <a:ext cx="78868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dentify causes of hypoglycaem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Activity (post-exerci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Food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454F7-6DA4-4343-92C8-48D2BE5B9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361800"/>
            <a:ext cx="7886880" cy="9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28560" y="1118880"/>
            <a:ext cx="788688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10-year boy was started on SC actrapid 3 - 5 IU tds &amp; SC insulatard 10 IU at bed time (DKA resolved after treatme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following is the BG monitoring in the ward: 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CBG mmol/L (insulin d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803160" y="3225960"/>
          <a:ext cx="7550280" cy="2927160"/>
        </p:xfrm>
        <a:graphic>
          <a:graphicData uri="http://schemas.openxmlformats.org/drawingml/2006/table">
            <a:tbl>
              <a:tblPr/>
              <a:tblGrid>
                <a:gridCol w="1509840"/>
                <a:gridCol w="1509840"/>
                <a:gridCol w="1509480"/>
                <a:gridCol w="1511280"/>
                <a:gridCol w="150984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d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 (5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 (10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 (5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 (10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 (5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 (10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17" name="Slide Number Placeholder 4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802A5-AE45-4B4F-8E88-F3D6B47DF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8560" y="399600"/>
            <a:ext cx="78868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628560" y="1244160"/>
            <a:ext cx="788688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Management of hypo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0AC19-C5E9-4297-B579-3D3FB13E1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7" name="Picture 3" descr=""/>
          <p:cNvPicPr/>
          <p:nvPr/>
        </p:nvPicPr>
        <p:blipFill>
          <a:blip r:embed="rId1"/>
          <a:stretch/>
        </p:blipFill>
        <p:spPr>
          <a:xfrm>
            <a:off x="530280" y="1876320"/>
            <a:ext cx="808812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628560" y="2063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fter his first clinic visit, the boy’s mother made a phone call to you. She informed that the boy was unwell. He had high grade fever associated with cough &amp; runny nose for the past 2 d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BG was in the range of 12 - 15 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uestion 6. How would you counsel the m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DA917-78AD-4C5A-BAEE-F78FADE26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5900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Arial"/>
                <a:ea typeface="Arial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331920" y="2149560"/>
            <a:ext cx="8470800" cy="2963880"/>
          </a:xfrm>
          <a:prstGeom prst="rect">
            <a:avLst/>
          </a:prstGeom>
          <a:ln w="0">
            <a:noFill/>
          </a:ln>
        </p:spPr>
      </p:pic>
      <p:sp>
        <p:nvSpPr>
          <p:cNvPr id="883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4A456-7F02-4168-9F1E-AF285EF2E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279000"/>
            <a:ext cx="78868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Arial"/>
                <a:ea typeface="Arial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741240" y="1020600"/>
            <a:ext cx="7677360" cy="5316840"/>
          </a:xfrm>
          <a:prstGeom prst="rect">
            <a:avLst/>
          </a:prstGeom>
          <a:ln w="0">
            <a:noFill/>
          </a:ln>
        </p:spPr>
      </p:pic>
      <p:sp>
        <p:nvSpPr>
          <p:cNvPr id="886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3527B-AB36-47AC-A24E-9F9C02604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788688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ff0000"/>
                </a:solidFill>
                <a:latin typeface="Arial"/>
                <a:ea typeface="Arial"/>
              </a:rPr>
              <a:t>Answer 6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1"/>
          <a:stretch/>
        </p:blipFill>
        <p:spPr>
          <a:xfrm>
            <a:off x="527040" y="893880"/>
            <a:ext cx="8172360" cy="7617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3" descr=""/>
          <p:cNvPicPr/>
          <p:nvPr/>
        </p:nvPicPr>
        <p:blipFill>
          <a:blip r:embed="rId2"/>
          <a:stretch/>
        </p:blipFill>
        <p:spPr>
          <a:xfrm>
            <a:off x="527040" y="1655640"/>
            <a:ext cx="8172360" cy="4745160"/>
          </a:xfrm>
          <a:prstGeom prst="rect">
            <a:avLst/>
          </a:prstGeom>
          <a:ln w="0">
            <a:noFill/>
          </a:ln>
        </p:spPr>
      </p:pic>
      <p:sp>
        <p:nvSpPr>
          <p:cNvPr id="890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CDB16-C131-42DE-B14E-C003243BE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593280"/>
            <a:ext cx="7886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61800" y="1568520"/>
            <a:ext cx="85140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boy was under regular paediatric clinic follow-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5 years after diagnosis, his serial HbA1c was between 12 - 13 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 did not really monitor his BG at home &amp; he admitted missing 1 - 2  times insulin injection a wee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7. What are the possible caus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f his poor glycaem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tro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74099-CFF6-48C2-85FC-016FE58DC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28560" y="399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628560" y="16840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psychosocial fac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sychosocial factors that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predict poor metabolic control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n T1D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low family support/cohesio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ingle par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amily stress/confli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sence of psychiatric disorder/eating disord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xtreme peer press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thers - low conscientiousness , low self-efficacy, avoidant emotion-focused coping style, low executive functio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FAD98-FA93-47D6-9270-A45773971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9600" spc="-1" strike="noStrike">
                <a:solidFill>
                  <a:srgbClr val="3333ff"/>
                </a:solidFill>
                <a:latin typeface="Calibri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8" name="Slide Number Placeholder 1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B6349-7550-4C64-B39C-B311F4280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628560" y="2063520"/>
            <a:ext cx="788688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What are the causes of high BG readings based on the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74B64-AC42-4353-B4AC-9906A9AFF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5900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28560" y="1819080"/>
            <a:ext cx="7886880" cy="39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Mismatch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between food intake &amp; insulin d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Oth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Wrong technique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of insulin in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Lipohypertrophy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(for long-standing diabetic patient that does not change injection si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7DAE0-10C3-4624-BA56-9CA185204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28560" y="2063520"/>
            <a:ext cx="78868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How do you manage hyperglycaem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E37B8-5615-4EEC-9EB6-677F90CC6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5900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28560" y="1754280"/>
            <a:ext cx="788688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dentify the causes of hyper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Food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Insulin d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f the BG level is persistently above the target dur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Calibri"/>
              </a:rPr>
              <a:t>pre-breakfast: increase pre-dinner or basal insu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Calibri"/>
              </a:rPr>
              <a:t>pre-lunch: increase pre-breakfast rapid-acting or short-acting insulin, or pre-breakfast basal insu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Calibri"/>
              </a:rPr>
              <a:t>pre-dinner: increase pre-lunch rapid-acting or short-acting insulin, or pre-breakfast basal insu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eed to target basal insulin/background insulin first by increasing insulatard by adding 1 - 2 IU 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Insulin tech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09E33-F252-4ED2-9424-C9DDC0301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662040" y="1690560"/>
          <a:ext cx="7867440" cy="4295880"/>
        </p:xfrm>
        <a:graphic>
          <a:graphicData uri="http://schemas.openxmlformats.org/drawingml/2006/table">
            <a:tbl>
              <a:tblPr/>
              <a:tblGrid>
                <a:gridCol w="1206360"/>
                <a:gridCol w="1619280"/>
                <a:gridCol w="3414600"/>
                <a:gridCol w="162720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lood sugar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ulin dose (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akfast (8 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slices of bread, 1 bowl of rice (45 g) with 1 fried chicken drumstick, 1 cup of m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ch       (1 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bowl of chicken rice (60 g), plain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ner     (7 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bowl of rice (45 g), 1 fried egg, plain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dtime (10 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glass of chocolate 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32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140FF-3560-4B06-8019-560C128B3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614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28560" y="2075040"/>
            <a:ext cx="7886880" cy="36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How should you advise patient in terms of medical nutrition therap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F94E7-328F-474B-B933-4B708BB8D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5900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628560" y="2050920"/>
            <a:ext cx="78868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Total calorie intake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be distributed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arbohydrate (carb) 50 - 5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at 25 - 3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 15 - 20% [high protein diet (&gt;25% total daily calorie intake) are not recommended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DF6A4-7D25-4B83-9B21-7809CB56D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04:18:09Z</dcterms:created>
  <dc:creator>Suriawati A.A.</dc:creator>
  <dc:description/>
  <dc:language>en-US</dc:language>
  <cp:lastModifiedBy>DrAmin</cp:lastModifiedBy>
  <dcterms:modified xsi:type="dcterms:W3CDTF">2017-01-03T01:54:39Z</dcterms:modified>
  <cp:revision>144</cp:revision>
  <dc:subject/>
  <dc:title>PowerPoint Presentation</dc:title>
</cp:coreProperties>
</file>